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9CCF-B1ED-4672-947A-757BB4E6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98D1-1B80-4E95-8AE7-F7F26F6D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4CF-85D2-4913-829B-61963CCF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CEC-E8CE-405E-B2D9-4D17DA21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7A0-0D60-4697-945C-C9F7294E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C7F-AA9B-4D83-8791-C81090FE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7F3-0C82-410C-A5AD-3111D6AD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263-B5D4-4E90-9F35-C3C467C3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E87-2DF0-4184-A8EA-DCACB87F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929-51EF-4F46-A523-7AA338C2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243-D510-48A6-AE4A-08F82525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9257-6AA5-48E2-A825-24784D79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4AC9-7AC7-4B09-BA8D-370DF638C8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5.xml"/><Relationship Id="rId3" Type="http://schemas.openxmlformats.org/officeDocument/2006/relationships/slide" Target="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6.xml"/><Relationship Id="rId3" Type="http://schemas.openxmlformats.org/officeDocument/2006/relationships/slide" Target=""/><Relationship Id="rId4" Type="http://schemas.openxmlformats.org/officeDocument/2006/relationships/slide" Target="slide12.xml"/><Relationship Id="rId5" Type="http://schemas.openxmlformats.org/officeDocument/2006/relationships/slide" Target="slide3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4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8.xml"/><Relationship Id="rId3" Type="http://schemas.openxmlformats.org/officeDocument/2006/relationships/slide" Target=""/><Relationship Id="rId4" Type="http://schemas.openxmlformats.org/officeDocument/2006/relationships/slide" Target="slide15.xml"/><Relationship Id="rId5" Type="http://schemas.openxmlformats.org/officeDocument/2006/relationships/slide" Target="slide3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0.xml"/><Relationship Id="rId3" Type="http://schemas.openxmlformats.org/officeDocument/2006/relationships/slide" Target=""/><Relationship Id="rId4" Type="http://schemas.openxmlformats.org/officeDocument/2006/relationships/slide" Target="slide18.xml"/><Relationship Id="rId5" Type="http://schemas.openxmlformats.org/officeDocument/2006/relationships/slide" Target="slide3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3.xml"/><Relationship Id="rId3" Type="http://schemas.openxmlformats.org/officeDocument/2006/relationships/slide" Target=""/><Relationship Id="rId4" Type="http://schemas.openxmlformats.org/officeDocument/2006/relationships/slide" Target="slide9.xml"/><Relationship Id="rId5" Type="http://schemas.openxmlformats.org/officeDocument/2006/relationships/slide" Target="slide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194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Текст»   5 класс_x000b__x000b_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оставитель: Иванова Татьяна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Учитель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>
            <a:hlinkClick r:id="rId1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Груп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мматиче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>
            <a:hlinkClick r:id="rId3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тдель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>
            <a:hlinkClick r:id="rId5" action="ppaction://hlinksldjump"/>
          </p:cNvPr>
          <p:cNvSpPr/>
          <p:nvPr/>
        </p:nvSpPr>
        <p:spPr>
          <a:xfrm>
            <a:off x="114300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ложенных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пределё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следова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rId4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овор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>
            <a:hlinkClick r:id="rId6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2:25:28Z</dcterms:created>
  <dc:creator>-</dc:creator>
  <dc:description/>
  <dc:language>en-US</dc:language>
  <cp:lastModifiedBy>Customer</cp:lastModifiedBy>
  <dcterms:modified xsi:type="dcterms:W3CDTF">2001-12-31T20:42:49Z</dcterms:modified>
  <cp:revision>9</cp:revision>
  <dc:subject/>
  <dc:title>Сложение и вычитание в пределах 100 с переходом через разряд. Тест.</dc:title>
</cp:coreProperties>
</file>